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EAA-1B4A-4AD6-8066-3DADF4A8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F2D-390C-489E-AF43-1C712871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F15-B1A8-4CE3-B6F7-882679E0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CFE-AA18-4964-80AE-E9E1E64C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D57-99F1-4D37-94A4-0E27203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355-D120-40A7-BC30-6E1AAF9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868-E260-4071-8782-DDFD7B6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250-855E-4BBF-B5F2-AAF1DB04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748-7C7F-4E04-8EB1-93E909B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2AC-4361-4805-B883-1F6F53A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B9A-FBFA-4B32-A924-3D8A930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BF7-D12F-4C32-8478-795595E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BA7-0249-47A9-A0F8-590DEA81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Alissa Tam and Bridget Dur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Student</cp:lastModifiedBy>
  <dcterms:modified xsi:type="dcterms:W3CDTF">2010-12-14T15:38:04Z</dcterms:modified>
  <cp:revision>2</cp:revision>
  <dc:subject/>
  <dc:title>Movement</dc:title>
</cp:coreProperties>
</file>